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0DF868-C571-4B67-91BA-AF9600772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E9E60B-D121-4504-A8AE-7F496BC25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213CE7-9693-4342-BFEE-988BE7AC0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7001C8-ADB3-4199-9D8F-111209FEA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276AE-9DC4-46D9-A19B-D97B4885B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EDEDD-CF73-40B7-8665-4F311594C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756D7-F4C0-4DC7-AC7B-3675150FB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48ABB-2D87-4B1B-9F77-03785B464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C61EF-3114-4331-86D4-6714BD368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1F092-7177-4E6E-A79D-F7D02741E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AAED1-4E36-48BE-B511-5656DCDBC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0B6C80-B561-4796-82F3-C09CC449B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5947B-3833-4F08-A4BA-3B3F0DA71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D9760-8D4E-4409-A986-C0680E2B1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39F56-E587-4492-A5BF-71FC7F1DA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64134-6844-449A-9064-6B0ADF6C3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80837-BF64-496F-A875-9E53F2DFA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DE58B7-0D67-4B4D-AEBE-F1A5F0445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D1332E-18BC-4CC3-93D3-39E4DDC1A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0D5557-004F-4F6D-9E2B-EA81F768A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DA90AA-4F9D-45CE-AA26-6A083A59B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3EBA06-D50A-4B2B-BFEC-64330E47E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2E9ED8-CA15-4264-82E7-E1E479FA3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DDE07E-ECA3-49BB-AEBE-A36E32E74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CAP_prj.exe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CE364-B634-48B8-B56A-714A9081ADD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94560" y="0"/>
            <a:ext cx="1549440" cy="2157480"/>
          </a:xfrm>
          <a:prstGeom prst="rect">
            <a:avLst/>
          </a:prstGeom>
          <a:ln w="0">
            <a:noFill/>
          </a:ln>
        </p:spPr>
      </p:pic>
      <p:sp>
        <p:nvSpPr>
          <p:cNvPr id="16" name=""/>
          <p:cNvSpPr/>
          <p:nvPr/>
        </p:nvSpPr>
        <p:spPr>
          <a:xfrm>
            <a:off x="673560" y="106200"/>
            <a:ext cx="401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Use the mouse button to activate each presentation st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796F9-6B31-45E1-8B3F-B8C76243F6D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CAP_prj.exe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AP</a:t>
            </a:r>
            <a:br>
              <a:rPr sz="4600"/>
            </a:b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ryptographic Analysis Program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2971800" y="4267080"/>
            <a:ext cx="6019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reaking a Column Transposition Help Present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077320" y="152280"/>
            <a:ext cx="914400" cy="12733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594880" y="6477120"/>
            <a:ext cx="559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s Enter or click on your mouse button to contin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39560" y="5270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reaking Transposi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13920" y="1936800"/>
            <a:ext cx="8293320" cy="367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re are three tasks involved in breaking a column transposition cipher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possible rectangle siz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the correct rectang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the column or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>
            <a:hlinkClick r:id="" action="ppaction://hlinkshowjump?jump=endshow"/>
          </p:cNvPr>
          <p:cNvPicPr/>
          <p:nvPr/>
        </p:nvPicPr>
        <p:blipFill>
          <a:blip r:embed="rId1"/>
          <a:stretch/>
        </p:blipFill>
        <p:spPr>
          <a:xfrm>
            <a:off x="228600" y="6248520"/>
            <a:ext cx="1009800" cy="48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0B92F3-FF60-4ADB-9299-E4E28189B65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ssible Rectang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first step in analyzing a column transposition is determining the number of colum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a completely filled transposition, the number of characters is the product of the number of rows and the number of colum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, factor the number of characters to determine possible row and column siz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FADBB3-829F-4809-B48C-D0FD66368EF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ich Rectangl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ce the factors only supply possible column sizes - test each possibility by doing a vowel cou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 line of plaintext should contain about 40% vow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, count the vowels in each row of each possible rectang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one with the best match to 40% is the best choice for the actual rect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9683DF-83A2-425D-9626-60A726FDD3F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tter Affin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4438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ce the rectangle size is determined, the column order must be discove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vantage is taken of all the characteristics of the plaintext languag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, in all languages there are certain letters usually of medium or low frequency which combine with other letters to form diagrams of high frequ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 (medium frequency) combines with T to form TH (highest frequenc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 combines with C (medium frequency) to form 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 (low frequency) combines with E to form VE (medium frequency in military tex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CFB308-D7B8-4704-BF1C-FE7498B717D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R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en there is an H, attempts should be made to combine it with a T or a C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 V should be combined first with an 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 K should be combined first with a 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BA70E0-1911-491E-B9D2-DF0D44AD7A8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lot Lett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, there is usually in every language at least one letter which can be followed by only certain other letters forming a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obligatory sequenc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variable digrap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 is always followed by 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 can only be followed by a vow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 can be preceded only by a vowel and except at the end of a word can only be succeeded by a vowel or C, H, P, 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tters such as these with limited affinity are called pilot let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C8D223-2A5D-4F24-BB87-6545F50F672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14360" y="3286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umn Size in C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89000" y="1464840"/>
            <a:ext cx="76276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 will determine both possible column sizes and run a vowel analysis of each colum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241280" y="2478240"/>
            <a:ext cx="1060560" cy="437976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3683160" y="2276640"/>
            <a:ext cx="5263920" cy="445284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1152360" y="3457440"/>
            <a:ext cx="1257480" cy="619200"/>
          </a:xfrm>
          <a:prstGeom prst="ellipse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C50C41-A757-49DA-9200-66014FCCE4C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12920" y="2635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agramming in C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15440" y="1336680"/>
            <a:ext cx="724068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P provides a tool to aid in the anagramming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927000" y="2243160"/>
            <a:ext cx="1117800" cy="461484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2400480" y="2638440"/>
            <a:ext cx="6591240" cy="383544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887400" y="3909960"/>
            <a:ext cx="1257480" cy="523800"/>
          </a:xfrm>
          <a:prstGeom prst="ellipse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3C6D26-545C-4630-815E-7EEDA16C37C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0T07:51:43Z</dcterms:created>
  <dc:creator>Richard Spillman</dc:creator>
  <dc:description/>
  <dc:language>en-US</dc:language>
  <cp:lastModifiedBy>Richard Spillman</cp:lastModifiedBy>
  <dcterms:modified xsi:type="dcterms:W3CDTF">2004-03-09T01:47:44Z</dcterms:modified>
  <cp:revision>69</cp:revision>
  <dc:subject/>
  <dc:title>CAP Cryptographic Analysis Program</dc:title>
</cp:coreProperties>
</file>